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412-4B82-4DC5-8865-872E5F49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B16-87F1-41CE-806A-DE35542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47C-AEF7-4277-9331-85AE99AA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8B1-9C05-4987-B213-44EDA510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CF9-51B0-4AD6-955B-774D5992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66B-9B2C-4C85-B890-105BDC99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BAF-99AC-4CE7-A1DB-7B8EA02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1C6-236B-44A8-90A4-C3841FC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B22-6BD2-4AD1-80C8-166BBA7E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D66-9673-41FE-8A3C-98438D3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23E-DF2C-4DC8-874B-C60E766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BF0-0782-41FF-812A-7368A53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E51C-25D2-4F6C-8175-D2239468C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aigh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547640" y="14000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720" y="29844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8360" y="1544760"/>
            <a:ext cx="3311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6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9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984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5840" y="117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580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   (6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3380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723744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780080" y="2035080"/>
                <a:ext cx="2120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16480" y="3068640"/>
                <a:ext cx="98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55640" y="371628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41240" y="4346640"/>
                <a:ext cx="166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5640" y="5283360"/>
                <a:ext cx="166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187280" y="1406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1616040"/>
            <a:ext cx="237636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9844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98560" y="1184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   (1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724280" y="2035080"/>
                <a:ext cx="2521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824360" y="3106800"/>
                <a:ext cx="1260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55640" y="364644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90480" y="4130640"/>
                <a:ext cx="1936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36920" y="4376880"/>
                <a:ext cx="1998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72080" y="4130640"/>
                <a:ext cx="2276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564240" y="5157720"/>
                <a:ext cx="1536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684360" y="5283360"/>
            <a:ext cx="1942920" cy="954000"/>
            <a:chOff x="684360" y="5283360"/>
            <a:chExt cx="1942920" cy="954000"/>
          </a:xfrm>
        </p:grpSpPr>
        <p:sp>
          <p:nvSpPr>
            <p:cNvPr id="313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84360" y="5283360"/>
                  <a:ext cx="193644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547640" y="139968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720" y="278136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58920" y="1484280"/>
            <a:ext cx="216072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10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2846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0,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5840" y="117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580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-3)   (10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3380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723744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11600" y="2035080"/>
                <a:ext cx="2459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376960" y="3328920"/>
                <a:ext cx="861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55640" y="379080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817560" y="4576680"/>
                <a:ext cx="1506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893880" y="5513400"/>
                <a:ext cx="1382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332000" y="1406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55640" y="1514160"/>
            <a:ext cx="2664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0560" y="155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2414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1184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   (9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754520" y="2035080"/>
                <a:ext cx="2460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962600" y="3106800"/>
                <a:ext cx="98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55640" y="364644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28720" y="4130640"/>
                <a:ext cx="16603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498840" y="4376880"/>
                <a:ext cx="1874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,7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516720" y="4130640"/>
                <a:ext cx="1844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670800" y="5157720"/>
                <a:ext cx="1322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"/>
          <p:cNvGrpSpPr/>
          <p:nvPr/>
        </p:nvGrpSpPr>
        <p:grpSpPr>
          <a:xfrm>
            <a:off x="684360" y="5283360"/>
            <a:ext cx="1942920" cy="954000"/>
            <a:chOff x="684360" y="5283360"/>
            <a:chExt cx="1942920" cy="954000"/>
          </a:xfrm>
        </p:grpSpPr>
        <p:sp>
          <p:nvSpPr>
            <p:cNvPr id="351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822240" y="5283360"/>
                  <a:ext cx="166068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32000" y="620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981000"/>
            <a:ext cx="180036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84360" y="2414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5080" y="11174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47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7)   (4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830840" y="2035080"/>
                <a:ext cx="230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59280" y="3213000"/>
                <a:ext cx="1138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09560" y="350028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84360" y="4581360"/>
                <a:ext cx="1722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529080" y="4521240"/>
                <a:ext cx="1812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,7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56240" y="4390920"/>
                <a:ext cx="1967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6562800" y="5157720"/>
                <a:ext cx="153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"/>
          <p:cNvGrpSpPr/>
          <p:nvPr/>
        </p:nvGrpSpPr>
        <p:grpSpPr>
          <a:xfrm>
            <a:off x="684360" y="5300640"/>
            <a:ext cx="1942920" cy="936720"/>
            <a:chOff x="684360" y="5300640"/>
            <a:chExt cx="1942920" cy="936720"/>
          </a:xfrm>
        </p:grpSpPr>
        <p:sp>
          <p:nvSpPr>
            <p:cNvPr id="373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776160" y="5545080"/>
                  <a:ext cx="1752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30080" y="4005360"/>
                <a:ext cx="1630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traight line, find coord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627280" y="981000"/>
            <a:ext cx="0" cy="258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320688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1280" y="1832040"/>
            <a:ext cx="2376720" cy="16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11640" y="32004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184464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y + 2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20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68360" y="83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89120" y="19512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1960" y="31748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95640" y="1838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4149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A lies on y ax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4149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oor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3564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y + 0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930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48000" y="4726080"/>
            <a:ext cx="1511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(0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5294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B lies on y ax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6360" y="52941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coor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3564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3080" y="529416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48000" y="5915160"/>
            <a:ext cx="151128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(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ous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4920" y="685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 the follow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62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66880" y="228600"/>
            <a:ext cx="6629040" cy="5917320"/>
            <a:chOff x="2666880" y="228600"/>
            <a:chExt cx="6629040" cy="5917320"/>
          </a:xfrm>
        </p:grpSpPr>
        <p:grpSp>
          <p:nvGrpSpPr>
            <p:cNvPr id="404" name=""/>
            <p:cNvGrpSpPr/>
            <p:nvPr/>
          </p:nvGrpSpPr>
          <p:grpSpPr>
            <a:xfrm>
              <a:off x="2666880" y="228600"/>
              <a:ext cx="6629040" cy="5917320"/>
              <a:chOff x="2666880" y="228600"/>
              <a:chExt cx="6629040" cy="59173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5402880" y="58572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66880" y="252468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689440" y="585720"/>
                <a:ext cx="0" cy="5560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293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991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595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8983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1992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5024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80444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106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666880" y="581040"/>
                <a:ext cx="0" cy="555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968920" y="579600"/>
                <a:ext cx="0" cy="556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5730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2706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876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78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80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7818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50853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66880" y="2804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66880" y="3359520"/>
                <a:ext cx="6043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66880" y="30812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66880" y="36367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66880" y="39164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66880" y="41936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66880" y="4471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66880" y="4749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66880" y="5056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666880" y="57636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66880" y="856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66880" y="113508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66880" y="1412280"/>
                <a:ext cx="60436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66880" y="1678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66880" y="1968840"/>
                <a:ext cx="6043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66880" y="2247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82360" y="5347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75880" y="5612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73360" y="6140880"/>
                <a:ext cx="6043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421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8723160" y="583200"/>
                <a:ext cx="0" cy="55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78400" y="5881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81800" y="228600"/>
                <a:ext cx="6242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672760" y="3182040"/>
                <a:ext cx="62316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048120" y="3390840"/>
              <a:ext cx="5257800" cy="307080"/>
              <a:chOff x="3048120" y="3390840"/>
              <a:chExt cx="5257800" cy="307080"/>
            </a:xfrm>
          </p:grpSpPr>
          <p:sp>
            <p:nvSpPr>
              <p:cNvPr id="450" name=""/>
              <p:cNvSpPr/>
              <p:nvPr/>
            </p:nvSpPr>
            <p:spPr>
              <a:xfrm>
                <a:off x="58672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722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771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16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866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15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960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010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814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769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720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70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625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576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526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481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334120" y="2971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72280" y="26668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2280" y="24004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72280" y="2133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72280" y="1828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72280" y="156204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2280" y="12762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72280" y="990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3505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95960" y="38098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95960" y="4038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5960" y="4343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95960" y="4572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95960" y="487692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95960" y="5181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95960" y="5486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95960" y="5715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50840" y="2527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+ 2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50920" y="2990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79280" y="3932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y -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0840" y="4830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2y +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43639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52941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685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 the follow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162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66880" y="228600"/>
            <a:ext cx="6629040" cy="5917320"/>
            <a:chOff x="2666880" y="228600"/>
            <a:chExt cx="6629040" cy="5917320"/>
          </a:xfrm>
        </p:grpSpPr>
        <p:grpSp>
          <p:nvGrpSpPr>
            <p:cNvPr id="493" name=""/>
            <p:cNvGrpSpPr/>
            <p:nvPr/>
          </p:nvGrpSpPr>
          <p:grpSpPr>
            <a:xfrm>
              <a:off x="2666880" y="228600"/>
              <a:ext cx="6629040" cy="5917320"/>
              <a:chOff x="2666880" y="228600"/>
              <a:chExt cx="6629040" cy="5917320"/>
            </a:xfrm>
          </p:grpSpPr>
          <p:sp>
            <p:nvSpPr>
              <p:cNvPr id="494" name=""/>
              <p:cNvSpPr/>
              <p:nvPr/>
            </p:nvSpPr>
            <p:spPr>
              <a:xfrm flipV="1">
                <a:off x="5402880" y="58572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66880" y="252468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689440" y="585720"/>
                <a:ext cx="0" cy="5560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293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991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595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8983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71992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75024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780444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106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666880" y="581040"/>
                <a:ext cx="0" cy="555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2968920" y="579600"/>
                <a:ext cx="0" cy="556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5730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2706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876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4178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480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47818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0853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66880" y="2804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66880" y="3359520"/>
                <a:ext cx="6043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66880" y="30812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66880" y="36367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66880" y="39164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66880" y="41936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66880" y="4471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66880" y="4749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66880" y="5056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666880" y="57636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666880" y="856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66880" y="113508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66880" y="1412280"/>
                <a:ext cx="60436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66880" y="1678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66880" y="1968840"/>
                <a:ext cx="6043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66880" y="2247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82360" y="5347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675880" y="5612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73360" y="6140880"/>
                <a:ext cx="6043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421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8723160" y="583200"/>
                <a:ext cx="0" cy="55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78400" y="5881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81800" y="228600"/>
                <a:ext cx="6242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72760" y="3182040"/>
                <a:ext cx="62316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048120" y="3390840"/>
              <a:ext cx="5257800" cy="307080"/>
              <a:chOff x="3048120" y="3390840"/>
              <a:chExt cx="5257800" cy="307080"/>
            </a:xfrm>
          </p:grpSpPr>
          <p:sp>
            <p:nvSpPr>
              <p:cNvPr id="539" name=""/>
              <p:cNvSpPr/>
              <p:nvPr/>
            </p:nvSpPr>
            <p:spPr>
              <a:xfrm>
                <a:off x="58672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1722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771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915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960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0010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814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8769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720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670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625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576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526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481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5334120" y="2971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2280" y="26668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72280" y="24004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72280" y="2133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2280" y="1828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72280" y="156204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12762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2280" y="990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34120" y="3505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95960" y="38098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95960" y="4038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95960" y="4343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95960" y="4572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95960" y="487692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95960" y="5181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95960" y="5486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95960" y="5715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50840" y="2527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+ 2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10,3)      (3,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2990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0,2)      (-2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9280" y="3932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y -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0840" y="4830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2y +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2360" y="43639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2,8)      (0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52941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1,1)      (-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50440" y="2459160"/>
            <a:ext cx="1299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27880" y="4387680"/>
            <a:ext cx="1443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16600" y="1595520"/>
            <a:ext cx="1429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627520" y="2733840"/>
            <a:ext cx="1429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788000" y="2421000"/>
            <a:ext cx="4032000" cy="3672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54520" y="1006560"/>
            <a:ext cx="237492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02200" y="2179800"/>
            <a:ext cx="144360" cy="142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27760" y="3009960"/>
            <a:ext cx="14436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26080" y="1611360"/>
            <a:ext cx="14436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27640" y="1065240"/>
            <a:ext cx="14472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626920" y="574560"/>
            <a:ext cx="4249800" cy="3959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700360" y="1569960"/>
            <a:ext cx="5818320" cy="26431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7636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144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+ x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03280" y="2852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x – 2 = 3x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58920" y="330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x – 3x = 8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03280" y="37418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x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03280" y="41734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16000" y="4822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x5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03280" y="56149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, y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61080" y="2878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2 + x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92720" y="330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– 2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24360" y="37418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69080" y="4102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92720" y="4822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 x 4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81800" y="56149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, y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gradient of the follow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47640" y="120312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7874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55640" y="1347840"/>
            <a:ext cx="3311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3683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2)   (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27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852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-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2720" y="2787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12096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7939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1419120"/>
            <a:ext cx="237636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27874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492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27939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2920" y="9874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11280" y="3365640"/>
                <a:ext cx="1814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914560" y="3402000"/>
            <a:ext cx="16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4564080"/>
                <a:ext cx="2274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09640" y="5635800"/>
                <a:ext cx="9842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17960" y="3357720"/>
                <a:ext cx="181476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7093080" y="3710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6)   (1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3429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38760" y="4564080"/>
                <a:ext cx="2520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5645160"/>
                <a:ext cx="1230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836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364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+ x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45080" y="1341360"/>
            <a:ext cx="16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+ 3b =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a – 4b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5280" y="35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1 = x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5280" y="3957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x = 7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4389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x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48211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8000" y="54705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4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62625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, y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3525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1 + x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74920" y="39574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– 1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6920" y="4389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1280" y="474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74920" y="54705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 x 5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64000" y="62625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, y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15280" y="141300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184644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43640" y="2276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a = 13 – 3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88000" y="2671920"/>
            <a:ext cx="201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859280" y="3141720"/>
            <a:ext cx="1513080" cy="398880"/>
            <a:chOff x="4859280" y="3141720"/>
            <a:chExt cx="1513080" cy="398880"/>
          </a:xfrm>
        </p:grpSpPr>
        <p:sp>
          <p:nvSpPr>
            <p:cNvPr id="627" name=""/>
            <p:cNvSpPr/>
            <p:nvPr/>
          </p:nvSpPr>
          <p:spPr>
            <a:xfrm>
              <a:off x="4859280" y="314172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Sub in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0360" y="3178080"/>
              <a:ext cx="289080" cy="28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6372360" y="3141720"/>
            <a:ext cx="262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(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– 4b = 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516720" y="3608280"/>
            <a:ext cx="24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9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9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4b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16720" y="407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9 – 9b – 8b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88000" y="4471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9 – 17b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51640" y="49039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227640" y="5479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a + 3 =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93080" y="584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16720" y="623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5, b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1916280"/>
            <a:ext cx="5832720" cy="1017360"/>
            <a:chOff x="539640" y="1916280"/>
            <a:chExt cx="5832720" cy="1017360"/>
          </a:xfrm>
        </p:grpSpPr>
        <p:sp>
          <p:nvSpPr>
            <p:cNvPr id="638" name=""/>
            <p:cNvSpPr/>
            <p:nvPr/>
          </p:nvSpPr>
          <p:spPr>
            <a:xfrm>
              <a:off x="539640" y="2565360"/>
              <a:ext cx="47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DON’T WORRY THERE’S A BETTER 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5003640" y="1916280"/>
              <a:ext cx="1368720" cy="720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77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7" dur="770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9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1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1989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b = 17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4559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a – 2b = 23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9640" y="3213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+ (2)       8a        = 40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72428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1)      3 x 5 + 2b   = 17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68360" y="522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5 + 2b   = 17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44720" y="56610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b   = 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87640" y="605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b   = 1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35733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     = 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76720" y="1989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b = 15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6720" y="24559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+ 2b = 13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13080" y="321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- (2)       2a  = 2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32360" y="4724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1 + 2b   = 13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661080" y="522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b   = 1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734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b   = 6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24360" y="357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= 1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77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8" dur="770" fill="hold"/>
                                        <p:tgtEl>
                                          <p:spTgt spid="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0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2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35280" y="198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x + 2y = 18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455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x + y  = 11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14172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2      4x + 2y = 22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4184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3) – (1)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x          = 4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9640" y="4724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2 x 4 + y   = 11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5229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8 + y   = 11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9640" y="6056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y   = 3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35280" y="162864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4m – 3n = 7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5280" y="206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m + 2n = 26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X 2      8m – 6n = 14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3213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3     15m + 6n = 78       - - -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9640" y="364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3) + (4)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23m        = 92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4832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4 x 4 + 2n   = 26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337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6  + 2n   = 26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9640" y="576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n   = 1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9640" y="6200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n   = 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24000" y="4040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m        = 4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4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4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adults and two children attended the cinema and were charged £19. Another party consisting of five adults and three children cost £30.75 to enter the same cinem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cost of an adult and child's t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198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c = 19.00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35280" y="2455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a + 3c = 30.75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4360" y="3141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X 3      9a + 6c = 57.00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3573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2     10a + 6c = 61.50       - - -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9640" y="4184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4) – (3)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        = 4.50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4724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1)      3 x 4.50 + 2c   = 19.0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9640" y="522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3.50 + 2c   = 19.0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640" y="566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c   = 5.5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6056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c   = 2.7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308720" y="1413000"/>
            <a:ext cx="1597320" cy="1088640"/>
            <a:chOff x="7308720" y="1413000"/>
            <a:chExt cx="1597320" cy="1088640"/>
          </a:xfrm>
        </p:grpSpPr>
        <p:sp>
          <p:nvSpPr>
            <p:cNvPr id="686" name="Film"/>
            <p:cNvSpPr/>
            <p:nvPr/>
          </p:nvSpPr>
          <p:spPr>
            <a:xfrm>
              <a:off x="7308720" y="1690200"/>
              <a:ext cx="666360" cy="811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ound"/>
            <p:cNvSpPr/>
            <p:nvPr/>
          </p:nvSpPr>
          <p:spPr>
            <a:xfrm>
              <a:off x="7694280" y="1413000"/>
              <a:ext cx="925200" cy="538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Photo"/>
            <p:cNvSpPr/>
            <p:nvPr/>
          </p:nvSpPr>
          <p:spPr>
            <a:xfrm>
              <a:off x="8046720" y="1732320"/>
              <a:ext cx="859320" cy="487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Music"/>
            <p:cNvSpPr/>
            <p:nvPr/>
          </p:nvSpPr>
          <p:spPr>
            <a:xfrm>
              <a:off x="8145720" y="2018520"/>
              <a:ext cx="704880" cy="4708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gradient of the lines connecting th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962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-1)  (7,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4000" y="2644920"/>
                <a:ext cx="2122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914560" y="2681280"/>
            <a:ext cx="16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28760" y="3843360"/>
                <a:ext cx="3135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5480" y="4915080"/>
                <a:ext cx="1568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3280" y="2637000"/>
                <a:ext cx="2152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93080" y="2989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,8)   (1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270828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43280" y="3843360"/>
                <a:ext cx="3105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40360" y="5180040"/>
                <a:ext cx="1260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84360" y="126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   A(-3,-1) and B(7,-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  C(6,8) and D(1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radient and Y-intercept of each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8000" y="1655640"/>
                <a:ext cx="865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32000" y="907920"/>
                <a:ext cx="2860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55640" y="4611600"/>
                <a:ext cx="12952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22880" y="2735280"/>
                <a:ext cx="147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44920" y="4778280"/>
                <a:ext cx="1117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232760" y="2708280"/>
                <a:ext cx="157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283520" y="3289320"/>
                <a:ext cx="1600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337520" y="4581360"/>
                <a:ext cx="109224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radient and Y-intercept of each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12680" y="1655640"/>
                <a:ext cx="87804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32000" y="907920"/>
                <a:ext cx="2860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70120" y="4586400"/>
                <a:ext cx="106668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38520" y="2735280"/>
                <a:ext cx="1041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038480" y="4778280"/>
                <a:ext cx="19306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08720" y="2708280"/>
                <a:ext cx="142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372440" y="3289320"/>
                <a:ext cx="142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232760" y="4541760"/>
                <a:ext cx="137160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99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2514600" y="1828800"/>
            <a:ext cx="2057400" cy="41148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2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y = 2x +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 =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</a:t>
            </a:r>
            <a:r>
              <a:rPr b="0" lang="en-GB" sz="2400" spc="-1" strike="noStrike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2x </a:t>
            </a:r>
            <a:r>
              <a:rPr b="0" lang="en-GB" sz="2400" spc="-1" strike="noStrike">
                <a:solidFill>
                  <a:srgbClr val="ff66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144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990720" y="1905120"/>
            <a:ext cx="4114800" cy="2133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2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½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2y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2y = 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½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189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71600" y="1295280"/>
            <a:ext cx="3886200" cy="1524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4267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½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5y + 2x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2y = 5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-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514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-</a:t>
            </a:r>
            <a:r>
              <a:rPr b="0" lang="en-GB" sz="24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234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1371600" y="1267920"/>
            <a:ext cx="3921120" cy="27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(2,5),(4,5),(-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co-ord always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22520" y="2060640"/>
            <a:ext cx="0" cy="331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4195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(-2,3),(-2,-5),(-2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48434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x co-ord always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348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x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02:38Z</dcterms:created>
  <dc:creator/>
  <dc:description/>
  <dc:language>en-US</dc:language>
  <cp:lastModifiedBy/>
  <dcterms:modified xsi:type="dcterms:W3CDTF">2007-08-30T09:19:34Z</dcterms:modified>
  <cp:revision>25</cp:revision>
  <dc:subject/>
  <dc:title>The Straight Line</dc:title>
</cp:coreProperties>
</file>